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99824"/>
        <c:axId val="9959897"/>
      </c:barChart>
      <c:catAx>
        <c:axId val="48499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9897"/>
        <c:crosses val="autoZero"/>
        <c:auto val="1"/>
        <c:lblAlgn val="ctr"/>
        <c:lblOffset val="100"/>
        <c:noMultiLvlLbl val="0"/>
      </c:catAx>
      <c:valAx>
        <c:axId val="9959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99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DC1-FD55-4B02-8CD7-F3FFDEF4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074-1183-43C0-8FB3-412499CC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8F2-26AA-4499-B79A-6C8DFE75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8B5-7B5C-4862-B19F-32C4F3FC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C8B-659C-4F60-BC8D-EA60A9E4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481-5C23-4819-BF91-F79C064E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611-96A9-45E6-8BF0-FAAA7C49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2A6-A382-454A-BE10-202FF015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3BC-A13C-4C9E-9DF2-A158F351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7FB-60C1-4632-9FD9-DAA8678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F64-CEB0-4521-BE93-3BB51FE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DEC-E183-4F93-9770-D0661737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DB5AA-53E2-43AC-BDF4-F64EF96D83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