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87109"/>
        <c:axId val="43653971"/>
      </c:barChart>
      <c:catAx>
        <c:axId val="94487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3971"/>
        <c:crosses val="autoZero"/>
        <c:auto val="1"/>
        <c:lblAlgn val="ctr"/>
        <c:lblOffset val="100"/>
        <c:noMultiLvlLbl val="0"/>
      </c:catAx>
      <c:valAx>
        <c:axId val="43653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7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C5A-CB98-4B4D-BEE1-78CB9D58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4F0-8758-42FD-A5E4-17F6A503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22D-905D-464F-BE20-DFF3CC77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C5A-7333-4DC8-9535-D1E5FB32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D74-3DB6-442B-AA4C-479FC596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57E-EB53-4262-AF41-BC6CCA8A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CDD-42EC-4D7E-9A39-A3DF2E2E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A89-C94D-4649-8074-104369E9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0E2-5292-43EF-8632-CB20E785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2D3-712D-4617-9C87-8D749D49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1E8-EC0E-4ACB-8D97-276E951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4A7-5CD0-4749-98F7-346BB8E5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89434-C91A-4922-B72E-6D5E11ECA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