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17408"/>
        <c:axId val="73588736"/>
      </c:barChart>
      <c:catAx>
        <c:axId val="54617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88736"/>
        <c:crosses val="autoZero"/>
        <c:auto val="1"/>
        <c:lblAlgn val="ctr"/>
        <c:lblOffset val="100"/>
        <c:noMultiLvlLbl val="0"/>
      </c:catAx>
      <c:valAx>
        <c:axId val="73588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17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DBE-673B-4DBF-9401-DD9DA636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229-B51F-4253-A334-1D82A546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E77-A8CF-473B-B373-8556B2BD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4D75-7AE8-4F0C-9DC9-E9CA004F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AD52-53E0-49F0-9E73-2DDC2093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67F-2404-4B47-9BD4-AA201A07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497-77CC-42C0-85CB-47EC0B07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413-EE4C-4EEC-8EDB-37AA1BC2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8C8-09C5-4289-8912-A06B325E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EFC-8AF5-47A3-AC06-F943EDC0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A4E-AAB9-49AC-82E0-61A0017B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293D-86A3-464B-8076-8A6FF9E8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7C49C-A047-4C24-BB43-6CDD31885E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