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97449"/>
        <c:axId val="68510884"/>
      </c:barChart>
      <c:catAx>
        <c:axId val="75497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0884"/>
        <c:crosses val="autoZero"/>
        <c:auto val="1"/>
        <c:lblAlgn val="ctr"/>
        <c:lblOffset val="100"/>
        <c:noMultiLvlLbl val="0"/>
      </c:catAx>
      <c:valAx>
        <c:axId val="68510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7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28F-5901-441D-9B49-65DA6300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1E3-18DC-43BC-80CB-784B22EC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E2D-D13E-4B23-9031-7F832B9F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227-4194-49E3-B992-F30F7B7A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866-C90D-4FAA-A4AF-51430770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7A-D47F-4538-BDCD-F652281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82F-82F7-46A1-81F7-B3FDFE4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EBE-A210-4674-A50C-6054E20B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054-FAFF-423E-AF26-19B7CDD5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CEF-B89D-441D-89A9-5EF773E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79D-A697-444B-8493-8358684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497-BA08-4BA3-87B9-20FFD5B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00D49-8544-42C5-8FB9-1E18C1920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