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65602"/>
        <c:axId val="99293239"/>
      </c:barChart>
      <c:catAx>
        <c:axId val="82465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93239"/>
        <c:crosses val="autoZero"/>
        <c:auto val="1"/>
        <c:lblAlgn val="ctr"/>
        <c:lblOffset val="100"/>
        <c:noMultiLvlLbl val="0"/>
      </c:catAx>
      <c:valAx>
        <c:axId val="99293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5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881-A950-4161-A565-A02C15D2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2B1-E8ED-477A-AC1B-E06D486E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E49-0E3D-441D-A3CC-BB5D162A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133-C6D3-49E8-9DBC-D13F3A9F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C6E-3259-4A0D-AC0C-D520DA85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35B-030F-447A-BE46-9B709E38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52A-BEA0-4599-9D65-F0233DEF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26C-5B37-4EE8-9089-B6C4342B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82D-17DA-472C-9802-04094325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9A3-005D-4EE2-B39F-518018C1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D11-D46B-4E5E-9A02-DA183D6C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38F-38EB-4582-9077-814AD3FA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7E926-5716-4C1C-9EE4-51FDE08377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