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03229"/>
        <c:axId val="68088471"/>
      </c:barChart>
      <c:catAx>
        <c:axId val="78203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88471"/>
        <c:crosses val="autoZero"/>
        <c:auto val="1"/>
        <c:lblAlgn val="ctr"/>
        <c:lblOffset val="100"/>
        <c:noMultiLvlLbl val="0"/>
      </c:catAx>
      <c:valAx>
        <c:axId val="68088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03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972-9384-4824-8FCA-030886BE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80A-14BA-4384-840D-708829ED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091-4104-464F-A3FB-94D8934A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FF1-5FCA-4E22-83FC-7295846D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DB0-5B0B-44DA-B176-B5E7AFA1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193-B852-44F0-8DAE-0B933FC1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ADC-6345-4F1C-B6FA-5A1B107C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29C-195A-4BF6-ABD5-0E4D5A6F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5CE-B833-4DF4-AAF2-6E3C2218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379-5A49-4CD3-9B98-CB5A37F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1C2-1CF1-4C32-93D4-AA6B018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19A-7BC1-484B-B155-49FFFC84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57E61-F3E9-48AC-AF7A-946375D566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