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34445"/>
        <c:axId val="60698129"/>
      </c:barChart>
      <c:catAx>
        <c:axId val="86134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8129"/>
        <c:crosses val="autoZero"/>
        <c:auto val="1"/>
        <c:lblAlgn val="ctr"/>
        <c:lblOffset val="100"/>
        <c:noMultiLvlLbl val="0"/>
      </c:catAx>
      <c:valAx>
        <c:axId val="60698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34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D4C-F270-4698-8161-CE03925E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788-D455-405C-87B7-78D8858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208-36EA-4CD4-9C74-C57FD70A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F28-EB3B-4DE3-A8DC-5873A836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C51-A78C-4571-A054-80556688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055-BE63-4787-8474-A59C0DDB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883-5981-4996-AAF7-EF71810D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CD4-BED8-4D9C-A982-6E1E4898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484-B164-4E82-9855-104F13FD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336-88D5-4EFB-A996-BF6A15E4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D1B-5EB9-4F51-934D-D1279371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B82-70FA-4B5E-BBEE-E6EF0F3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B58A0-834E-4288-ACDD-A28AC9FC5F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