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00988"/>
        <c:axId val="55186999"/>
      </c:barChart>
      <c:catAx>
        <c:axId val="133009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86999"/>
        <c:crosses val="autoZero"/>
        <c:auto val="1"/>
        <c:lblAlgn val="ctr"/>
        <c:lblOffset val="100"/>
        <c:noMultiLvlLbl val="0"/>
      </c:catAx>
      <c:valAx>
        <c:axId val="55186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009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BB2-B28D-4CE7-B60B-88384CA3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152-166F-4A98-AD84-C60A339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AE41-E2F9-496E-BE81-62AE5BB6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6D1B-2463-4545-A7C3-2E64D89B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0C9-F357-442F-9BD8-BEE63E9B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603-FC70-402F-8D1D-DC00F80E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748-EC1E-402C-ADB3-9A09E7F3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5A5-411F-425F-9EC4-E1305C2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06A-71B1-49B8-B5C1-7DB73FD4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626-83A5-44BC-8444-60597FC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A4B-5E61-4E6F-B82E-B62BED90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287-48A2-4185-A29D-7A5F840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5CC4A-29DE-4EC7-B394-2161DDA01B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