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7718967"/>
        <c:axId val="47605193"/>
      </c:barChart>
      <c:catAx>
        <c:axId val="3771896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605193"/>
        <c:crosses val="autoZero"/>
        <c:auto val="1"/>
        <c:lblAlgn val="ctr"/>
        <c:lblOffset val="100"/>
        <c:noMultiLvlLbl val="0"/>
      </c:catAx>
      <c:valAx>
        <c:axId val="4760519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71896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C5288-3A53-46AA-BF73-FA489B6AD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96547-8993-4B93-ACA8-30CADC22C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BC6B8-CE2C-4CF6-87DC-2CCC978F1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E1C99-6608-41F4-A79F-4738B7D78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4D3F1-E210-4108-9889-0C15C3145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AC7DA-6A68-48B3-A774-CDA3B3190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8A1D0-91C7-4111-A5A1-7E6B59087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1C587-AFC9-4E51-86B2-5E953D0E1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123DC-EC8B-4462-B1D7-5335FDE67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A017E-9A55-45BB-9EC3-10FBCBA90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65C4F-DE1A-4784-94A7-F2FEFC0CC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FB1E3-B8DA-4FC1-AF73-BCA4D074F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EEFDF4-F26D-47F6-8C5A-EE2069EB6D6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